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0.png" ContentType="image/pn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png" ContentType="image/png"/>
  <Override PartName="/ppt/media/image6.gif" ContentType="image/gif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1A8-CC8E-406E-ABEB-51FA79AB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239-1368-4701-9A70-A4C569B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DC2-C289-450A-81C5-8380FE4E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601-33C9-47E8-B1FA-EC125F5D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2C72-8EC6-41A7-A4CF-A9ABA3F9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61F9-F957-48EB-BF4D-108C05C3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471-6E13-478A-B200-EF6D0E61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C66-99E4-42AA-8BBD-1975D490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7EC-55CA-4629-BCD1-9585709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9242-590D-49B3-99BE-BB872F2E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44A-E973-4044-8D64-DA37DF8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F44-7166-4980-88CB-6A56AE6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06DD-DAAB-4A40-92A4-2EA0111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F9F5-EC38-4D2E-AB8E-2A52778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4ECB-2148-491F-ABE4-4C7D818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275E-9AF6-4010-AB2D-6114D8AD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520C-6FBF-4CDD-97FC-2B059FCB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916-DFA8-4D39-A684-5A8AD2C7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D62-E222-49D9-B9AC-66EB35BA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15A-8D52-4394-B2AE-9F638180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433-6134-4FC0-BA58-60F5D11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78F-FE12-46FC-A4DA-5F7764E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36F-7763-4665-9D73-F12B692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4C4-6662-4725-AD72-0DC7308E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915-0395-4DD5-8551-B992438674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F9F4-4EA5-4136-829F-06245361C4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5562720"/>
            <a:ext cx="567396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-838080" y="5264280"/>
            <a:ext cx="3657600" cy="159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flipH="1">
            <a:off x="7543440" y="5373720"/>
            <a:ext cx="160020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476760" cy="175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447920" y="4572000"/>
            <a:ext cx="60958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اعداد الاستاذه / مروه ممدوح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2438280"/>
            <a:ext cx="84582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ndalus"/>
              </a:rPr>
              <a:t>اكبر الرحلات في اصغر المسافات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ndalus"/>
              <a:ea typeface="Andalus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0"/>
            <a:ext cx="2362320" cy="1828800"/>
          </a:xfrm>
          <a:prstGeom prst="ellipse">
            <a:avLst/>
          </a:prstGeom>
          <a:solidFill>
            <a:srgbClr val="ffffff"/>
          </a:solidFill>
          <a:ln cap="sq"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حافظه الفيوم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ادارة طاميه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درسه كوم اوشيم 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C4E-DFF3-4DA8-8AE8-585BDD7AA28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457200"/>
            <a:ext cx="8686800" cy="838080"/>
          </a:xfrm>
          <a:prstGeom prst="rect">
            <a:avLst/>
          </a:prstGeom>
          <a:solidFill>
            <a:srgbClr val="ff0066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Times New Roman"/>
              </a:rPr>
              <a:t>هل هناك علاقه بين صحة جهازك الهضمي ونظافتك الشخصيه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137628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752480"/>
            <a:ext cx="8839080" cy="1067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اذا كانت اجابتك بنعم وضح هذه العلاقه حسب فهمك للموضوع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8839080" cy="83808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ما العلاقه بين صحتك ونظافه البيئه المحيطه بك 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343400"/>
            <a:ext cx="8134200" cy="1371600"/>
          </a:xfrm>
          <a:prstGeom prst="borderCallout1">
            <a:avLst>
              <a:gd name="adj1" fmla="val 18750"/>
              <a:gd name="adj2" fmla="val -8333"/>
              <a:gd name="adj3" fmla="val -45833"/>
              <a:gd name="adj4" fmla="val 100935"/>
            </a:avLst>
          </a:prstGeom>
          <a:solidFill>
            <a:srgbClr val="ccff99"/>
          </a:solidFill>
          <a:ln w="2844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Times New Roman"/>
              </a:rPr>
              <a:t>ما الامراض الناتجه عن اهمال الانسان لنظافته الشخصيه ونظافه البيئه من حولك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EC1-6823-4260-A27B-5954DFB1E51D}" type="slidenum">
              <a:t>10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76320">
            <a:solidFill>
              <a:srgbClr val="eaeaea"/>
            </a:solidFill>
            <a:prstDash val="lgDash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0000"/>
                </a:solidFill>
                <a:latin typeface="Times New Roman"/>
              </a:rPr>
              <a:t>قارن بين القناه الهضميه والغدد الملحقه بالقناه الهضميه ؟</a:t>
            </a:r>
            <a:r>
              <a:rPr b="0" lang="ar-EG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905120"/>
          <a:ext cx="8229600" cy="4773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الغدد الملحقه بالجهاز الهضمي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القناه الهضميه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وجه المقارنه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هي عباره عن غدد تقوم بإنتاج العصارات التي تصب في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هي قناه عضليه يتم فيها هضم الطعام و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تعريفها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تكون من الغده ...... و ....... و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ساعد هذه الافرازات في اتمام عمليه 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بدء بالفم وتنتهي ب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مكوناتها ووظيفتها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71C-9A42-4A31-9C47-6A90961DAA7D}" type="slidenum">
              <a:t>11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Times New Roman"/>
              </a:rPr>
              <a:t>ما اسباب الاصابه بامراض الجهاز الهضمي في الانسان  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19320" y="1905120"/>
            <a:ext cx="7467480" cy="4572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0000"/>
            </a:solidFill>
            <a:prstDash val="lgDashDot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Times New Roman"/>
              </a:rPr>
              <a:t>عدم المحافظه علي</a:t>
            </a:r>
            <a:r>
              <a:rPr b="0" lang="ar-EG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481-57A4-4021-BB26-7C2CAB48DB2A}" type="slidenum">
              <a:t>12</a:t>
            </a:fld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380880"/>
            <a:ext cx="8534160" cy="2590920"/>
          </a:xfrm>
          <a:custGeom>
            <a:avLst/>
            <a:gdLst>
              <a:gd name="textAreaLeft" fmla="*/ 0 w 8534160"/>
              <a:gd name="textAreaRight" fmla="*/ 8534520 w 8534160"/>
              <a:gd name="textAreaTop" fmla="*/ 335880 h 2590920"/>
              <a:gd name="textAreaBottom" fmla="*/ 22550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تتبع مسار بلعه غذائيه داخل جهازك الهضمي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543800" y="4419720"/>
            <a:ext cx="16002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36B-11AA-409C-A440-1AB5E1347951}" type="slidenum">
              <a:t>13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280" y="457200"/>
            <a:ext cx="8839440" cy="1523880"/>
          </a:xfrm>
          <a:prstGeom prst="wedgeRoundRectCallout">
            <a:avLst>
              <a:gd name="adj1" fmla="val 36583"/>
              <a:gd name="adj2" fmla="val 78023"/>
              <a:gd name="adj3" fmla="val 16667"/>
            </a:avLst>
          </a:prstGeom>
          <a:solidFill>
            <a:srgbClr val="ff0066"/>
          </a:solidFill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Times New Roman"/>
              </a:rPr>
              <a:t>ما الامراض الناتجه عن اهمال الانسان لنظافته الشخصيه ونظافه البيئه التي يعيش فيها ؟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FB5-2C6A-4B4C-86EB-5A611DE68F1B}" type="slidenum">
              <a:t>14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380880"/>
            <a:ext cx="8839080" cy="2514600"/>
            <a:chOff x="0" y="380880"/>
            <a:chExt cx="8839080" cy="2514600"/>
          </a:xfrm>
        </p:grpSpPr>
        <p:sp>
          <p:nvSpPr>
            <p:cNvPr id="163" name=""/>
            <p:cNvSpPr/>
            <p:nvPr/>
          </p:nvSpPr>
          <p:spPr>
            <a:xfrm>
              <a:off x="0" y="380880"/>
              <a:ext cx="8839080" cy="2514600"/>
            </a:xfrm>
            <a:prstGeom prst="cloudCallout">
              <a:avLst>
                <a:gd name="adj1" fmla="val 30819"/>
                <a:gd name="adj2" fmla="val 700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914400" y="1143000"/>
              <a:ext cx="70866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7dfd3">
                        <a:alpha val="50000"/>
                      </a:srgbClr>
                    </a:outerShdw>
                  </a:effectLst>
                  <a:latin typeface="Times New Roman"/>
                </a:rPr>
                <a:t>ماذا تعرف عن اسباب الاصابه بدودة الانكلستوما ؟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4B1-AC8C-450F-B706-0F91F35525E9}" type="slidenum">
              <a:t>15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80880"/>
            <a:ext cx="8763120" cy="2667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00"/>
                </a:solidFill>
                <a:latin typeface="Times New Roman"/>
              </a:rPr>
              <a:t>ما الطورالمعدي الذي يصيب الانسان ويجدد دورة حياة الدودة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528-289D-4A2E-98C6-53458957F781}" type="slidenum">
              <a:t>16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228600"/>
            <a:ext cx="8839080" cy="2590920"/>
          </a:xfrm>
          <a:prstGeom prst="wedgeEllipseCallout">
            <a:avLst>
              <a:gd name="adj1" fmla="val 33944"/>
              <a:gd name="adj2" fmla="val 64092"/>
            </a:avLst>
          </a:prstGeom>
          <a:solidFill>
            <a:srgbClr val="ffffcc"/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Times New Roman"/>
              </a:rPr>
              <a:t>كيف يمكنك تجنب الاصابه بدودة الانكلستوما 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662-37E5-4173-9061-6E32A1207E0D}" type="slidenum">
              <a:t>17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352680"/>
            <a:ext cx="9144000" cy="2362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2120"/>
            <a:ext cx="9144000" cy="16002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0000"/>
            </a:solidFill>
            <a:prstDash val="sys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flowChartPredefined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كم عدد المصابين بالامراض المعديه التي تسببها الديدان الطفيليه في الحي الذي تسكنه ؟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EG" sz="3200" spc="-1" strike="noStrike">
                <a:solidFill>
                  <a:srgbClr val="ff0000"/>
                </a:solidFill>
                <a:latin typeface="Times New Roman"/>
              </a:rPr>
              <a:t>هل تختلف معدلات الإصابة بهذه الامراض المعديه مثل دودة الاسكارس ودودة الانكلستوما فيما بين الاشخاص الذين يحافظون علي نظافتهم الشخصيه ونظافه البيئه عن غيرهم 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85E-E4E0-40A7-9720-D5853B29BBC7}" type="slidenum">
              <a:t>18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5228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ما دورك نحو  التوعيه للحد من انتشار الامراض المعديه بين افراد المنطقه التي تعيش بها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76520" y="2209680"/>
            <a:ext cx="6781680" cy="4343400"/>
          </a:xfrm>
          <a:prstGeom prst="flowChartPunchedCard">
            <a:avLst/>
          </a:prstGeom>
          <a:solidFill>
            <a:srgbClr val="ffffff"/>
          </a:solidFill>
          <a:ln w="38160">
            <a:solidFill>
              <a:srgbClr val="990000"/>
            </a:solidFill>
            <a:prstDash val="dash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B5B-1607-4EED-AF11-3886008BFB9F}" type="slidenum">
              <a:t>19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38280" y="3352680"/>
            <a:ext cx="6324840" cy="16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410080"/>
            <a:ext cx="8763120" cy="121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Times New Roman"/>
              </a:rPr>
              <a:t>ما مستلزمات رحلتك في الحياه ؟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0"/>
            <a:ext cx="8610480" cy="2971800"/>
          </a:xfrm>
          <a:prstGeom prst="cloudCallout">
            <a:avLst>
              <a:gd name="adj1" fmla="val 31361"/>
              <a:gd name="adj2" fmla="val 46527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eaeaea"/>
                </a:solidFill>
                <a:latin typeface="Times New Roman"/>
              </a:rPr>
              <a:t>ما تصورك عن اكبر رحله يمكن ان تتم في اصغر مسافه يوميا بداخلك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flipH="1">
            <a:off x="-360" y="259092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029-7290-4F2E-9192-E1F33F66AC4D}" type="slidenum">
              <a:t>2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2971800"/>
          </a:xfrm>
          <a:prstGeom prst="rect">
            <a:avLst/>
          </a:prstGeom>
          <a:solidFill>
            <a:srgbClr val="990099"/>
          </a:solidFill>
          <a:ln w="76320">
            <a:solidFill>
              <a:srgbClr val="990099"/>
            </a:solidFill>
            <a:prstDash val="lgDash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Times New Roman"/>
              </a:rPr>
              <a:t>وضح دور الدوله في الحد من انتشار الامراض المعديه خاصه في المناطق النائيه والمناطق العشوائيه 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372-777A-418F-AC60-96469B447E30}" type="slidenum">
              <a:t>20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33720" y="152280"/>
            <a:ext cx="6553080" cy="6629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09320" y="380520"/>
            <a:ext cx="632484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ناول بعض الأفكار أو المعلومات التي توصل إليها زملاؤك ووضح أهميتها للعمل بالمشرو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اقش مع زملائك بعض الحلول المقترحة لمواجهة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 انتشار الامراض المعديه في الحي الذي تسكن به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قم بتحديد أفضل الحلول 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لمواجهة ظاهره انتشار الامراض المعديه في مصر وذل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الاشتراك مع زملائك 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اقش مع مجموعتك أكثر المشكلات التي تواجهك يوميا منذ توجهك إلى المدرسة وحتى نهاية اليوم الدراس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7E1-10FC-4496-9AB9-770E8E7AAF2D}" type="slidenum">
              <a:t>21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09680" y="304920"/>
            <a:ext cx="6326280" cy="1460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0" y="5295960"/>
            <a:ext cx="914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Andalus"/>
              </a:rPr>
              <a:t> </a:t>
            </a:r>
            <a:r>
              <a:rPr b="0" lang="hi-I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Andalus"/>
              </a:rPr>
              <a:t>الحمد لله رب العالمين والصلاة والسلام على سيد المرسلين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c0c0c0">
                    <a:alpha val="5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13762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 flipH="1" rot="10800000">
            <a:off x="0" y="-360"/>
            <a:ext cx="1376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5E7-9E10-4D35-9B57-ED3AC3C691A8}" type="slidenum">
              <a:t>22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81080"/>
            <a:ext cx="7162560" cy="15242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ما الاشياء التي لا يمكن ان تعيش بدونها ابدا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76320" y="382104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ماذا يستفيد جسمك من الحصول علي هذه الاشياء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33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اي ما الاشياء الضروريه لحياتك 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541008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B96-B91D-4508-A30B-A48E68D29489}" type="slidenum">
              <a:t>3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1904760"/>
          </a:xfrm>
          <a:prstGeom prst="wedgeRectCallout">
            <a:avLst>
              <a:gd name="adj1" fmla="val 44791"/>
              <a:gd name="adj2" fmla="val 77000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كيف يمكن ان يستفيد جسمك من هذه الاشياء في القيام بالاعمال المطلوبه منك كل يوم 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14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ا الذي يمدك بالطاقه اللازمه للقيام ب</a:t>
            </a: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تلك الا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نشطه </a:t>
            </a: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86440" y="5562720"/>
            <a:ext cx="2257560" cy="121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5781600"/>
            <a:ext cx="233856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20840400">
            <a:off x="3123720" y="5349600"/>
            <a:ext cx="300204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1315" y="182"/>
                </a:moveTo>
                <a:lnTo>
                  <a:pt x="453" y="0"/>
                </a:lnTo>
                <a:lnTo>
                  <a:pt x="0" y="363"/>
                </a:lnTo>
                <a:lnTo>
                  <a:pt x="226" y="771"/>
                </a:lnTo>
                <a:lnTo>
                  <a:pt x="952" y="998"/>
                </a:lnTo>
                <a:lnTo>
                  <a:pt x="1587" y="635"/>
                </a:lnTo>
                <a:lnTo>
                  <a:pt x="1315" y="18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B26-DC3F-4FD7-A2BB-159322BC19EC}" type="slidenum">
              <a:t>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228600" y="152280"/>
            <a:ext cx="9448920" cy="1524240"/>
          </a:xfrm>
          <a:prstGeom prst="ellipse">
            <a:avLst/>
          </a:prstGeom>
          <a:solidFill>
            <a:srgbClr val="ffcc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هل فكرت في يوم من الايام في انواع الاطعمه المختلفه التي تتناولها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9680"/>
            <a:ext cx="9144000" cy="106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هل تتناول كل يوم نفس النوع من الطعام او الشراب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505320"/>
            <a:ext cx="8381880" cy="1600200"/>
          </a:xfrm>
          <a:prstGeom prst="ellipse">
            <a:avLst/>
          </a:prstGeom>
          <a:solidFill>
            <a:srgbClr val="cc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ما انواع </a:t>
            </a:r>
            <a:r>
              <a:rPr b="1" lang="ar-EG" sz="4000" spc="-1" strike="noStrike">
                <a:solidFill>
                  <a:srgbClr val="ff0066"/>
                </a:solidFill>
                <a:latin typeface="Times New Roman"/>
              </a:rPr>
              <a:t>الطعام</a:t>
            </a: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 التي تتناولها </a:t>
            </a:r>
            <a:r>
              <a:rPr b="1" lang="ar-EG" sz="4000" spc="-1" strike="noStrike">
                <a:solidFill>
                  <a:srgbClr val="ff0066"/>
                </a:solidFill>
                <a:latin typeface="Times New Roman"/>
              </a:rPr>
              <a:t>اثناء الوجبات </a:t>
            </a: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280" y="4876920"/>
            <a:ext cx="137664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5410080"/>
            <a:ext cx="48006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3F6-60A6-4F2D-95BC-DCE343F74900}" type="slidenum">
              <a:t>5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80880"/>
            <a:ext cx="9144000" cy="3048120"/>
          </a:xfrm>
          <a:prstGeom prst="cloudCallout">
            <a:avLst>
              <a:gd name="adj1" fmla="val -13074"/>
              <a:gd name="adj2" fmla="val 50884"/>
            </a:avLst>
          </a:prstGeom>
          <a:solidFill>
            <a:srgbClr val="ffcccc"/>
          </a:solidFill>
          <a:ln cap="rnd" w="12600">
            <a:solidFill>
              <a:srgbClr val="ff0066"/>
            </a:solidFill>
            <a:custDash>
              <a:ds d="100000" sp="1000"/>
            </a:custDash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Times New Roman"/>
              </a:rPr>
              <a:t>تفتكر ماذا يحدث للطعام بعد تناوله ؟</a:t>
            </a: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واين يحدث؟ وكيف يحدث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886200"/>
            <a:ext cx="5639040" cy="28954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cap="sq" w="19080">
            <a:solidFill>
              <a:srgbClr val="ff0066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5AC-E76C-4F63-854C-DD1F6CC3D2C0}" type="slidenum">
              <a:t>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لماذا سمي الجهاز الهضمي بهذا الاسم ؟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عرف عملية الهضم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ما يتكون جهازك الهضمي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ا الفرق بين اعضاء الجهاز الهضمي والغدد الملحقه به 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قارن بين مكونات القناة الهضمية والغدد الملحقة بالقناة الهضمية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ما وظائف الغدد الملحقه بالجهاز الهضمي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ما وظيفه كل عضو من اعضاء الجهاز الهضمي في الانسان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ا الفرق بين الهضم والامتصاص ؟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كيف يمكنك الحفاظ علي جهازك الهضمي ضد الامراض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صف مراحل الهضم في الجهاز الهضمي ؟ وذلك بتتبع مسار بلعه غذائيه داخل جهازك الهضمي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4DF-7DBF-479F-A539-5DD1584B3A76}" type="slidenum">
              <a:t>7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2057400"/>
          </a:xfrm>
          <a:prstGeom prst="ellipse">
            <a:avLst/>
          </a:prstGeom>
          <a:solidFill>
            <a:srgbClr val="ccff99"/>
          </a:solidFill>
          <a:ln cap="sq" w="12600">
            <a:solidFill>
              <a:srgbClr val="eaeaea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9601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لماذا يجب ان تمضغ الطعام جيدا اثناء تناوله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3581280"/>
            <a:ext cx="8915400" cy="1067040"/>
          </a:xfrm>
          <a:prstGeom prst="rect">
            <a:avLst/>
          </a:prstGeom>
          <a:solidFill>
            <a:srgbClr val="ffcccc"/>
          </a:solidFill>
          <a:ln cap="rnd" w="1908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000000"/>
                </a:solidFill>
                <a:latin typeface="Times New Roman"/>
              </a:rPr>
              <a:t>ماذا يحدث لو لم يمضغ الطعام جيدا  ؟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2057400" cy="1484280"/>
          </a:xfrm>
          <a:prstGeom prst="rect">
            <a:avLst/>
          </a:prstGeom>
          <a:ln w="0">
            <a:noFill/>
          </a:ln>
        </p:spPr>
      </p:pic>
      <p:pic>
        <p:nvPicPr>
          <p:cNvPr id="142" name="020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67616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9C-76C4-4128-BAE8-FD1B65774841}" type="slidenum">
              <a:t>8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2286000"/>
            <a:ext cx="7696440" cy="3886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0000"/>
            </a:solidFill>
            <a:custDash>
              <a:ds d="100000" sp="1000"/>
            </a:custDash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عدم الاكثار من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الحفاظ علي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الاهتمام ب</a:t>
            </a:r>
            <a:r>
              <a:rPr b="0" lang="ar-E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228600"/>
            <a:ext cx="8915400" cy="1905120"/>
          </a:xfrm>
          <a:prstGeom prst="downArrowCallout">
            <a:avLst>
              <a:gd name="adj1" fmla="val -85914"/>
              <a:gd name="adj2" fmla="val 116993"/>
              <a:gd name="adj3" fmla="val 16667"/>
              <a:gd name="adj4" fmla="val 66667"/>
            </a:avLst>
          </a:prstGeom>
          <a:solidFill>
            <a:srgbClr val="ffff99"/>
          </a:solidFill>
          <a:ln w="19080">
            <a:solidFill>
              <a:srgbClr val="ff0066"/>
            </a:solidFill>
            <a:prstDash val="dashDot"/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0000"/>
                </a:solidFill>
                <a:latin typeface="Times New Roman"/>
              </a:rPr>
              <a:t>من طرق المحافظه علي صحتك جهازك الهضمي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B90-A9AC-4890-BF55-9533CA2DF2DE}" type="slidenum">
              <a:t>9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9:00:23Z</dcterms:created>
  <dc:creator>magichorse</dc:creator>
  <dc:description/>
  <dc:language>en-US</dc:language>
  <cp:lastModifiedBy>lolo</cp:lastModifiedBy>
  <dcterms:modified xsi:type="dcterms:W3CDTF">2007-12-01T19:44:16Z</dcterms:modified>
  <cp:revision>85</cp:revision>
  <dc:subject/>
  <dc:title>Slide 1</dc:title>
</cp:coreProperties>
</file>